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1.gif" ContentType="image/gif"/>
  <Override PartName="/ppt/media/image10.png" ContentType="image/png"/>
  <Override PartName="/ppt/media/image13.gif" ContentType="image/gif"/>
  <Override PartName="/ppt/media/image8.gif" ContentType="image/gif"/>
  <Override PartName="/ppt/media/image12.png" ContentType="image/png"/>
  <Override PartName="/ppt/media/image7.png" ContentType="image/png"/>
  <Override PartName="/ppt/media/image4.gif" ContentType="image/gif"/>
  <Override PartName="/ppt/media/image6.png" ContentType="image/png"/>
  <Override PartName="/ppt/media/image9.png" ContentType="image/png"/>
  <Override PartName="/ppt/media/image17.gif" ContentType="image/gif"/>
  <Override PartName="/ppt/media/image3.png" ContentType="image/png"/>
  <Override PartName="/ppt/media/image20.png" ContentType="image/png"/>
  <Override PartName="/ppt/media/image18.png" ContentType="image/png"/>
  <Override PartName="/ppt/media/image19.png" ContentType="image/png"/>
  <Override PartName="/ppt/media/image16.gif" ContentType="image/gif"/>
  <Override PartName="/ppt/media/image15.png" ContentType="image/png"/>
  <Override PartName="/ppt/media/image1.png" ContentType="image/png"/>
  <Override PartName="/ppt/media/image21.gif" ContentType="image/gif"/>
  <Override PartName="/ppt/media/image2.png" ContentType="image/png"/>
  <Override PartName="/ppt/media/image22.gif" ContentType="image/gif"/>
  <Override PartName="/ppt/media/image14.jpeg" ContentType="image/jpe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9BEE-7832-4EC0-867F-F3A1BD655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9E74-A348-42F1-9252-C96C2534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F987E6-FF5C-4BD5-8DB5-1FCEBF80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E1B008-59A8-4619-A687-A080D454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4D8D7A-5BA9-4879-AAFD-71EA1359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2879D2-10CE-45D6-A7A4-C1F8355F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B948FC-1C12-4D9F-8B56-602F94F7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742D4A-A150-4A53-BA37-8683D2F0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CE52BB-0141-4D60-A3D3-B75816A3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244B44-B185-4928-A0B2-0C38FF073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16B869-404E-4A6A-AD22-4A61DC616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CA9C57-3372-4D07-B0ED-CE245925E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C3D6-3B3B-4A46-BCCF-4D10B755B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E59FE1-342A-416D-9A2C-5F6F019B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4615E4-5B80-4CDA-9217-7D6B4683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18D039-264B-421B-AFE7-34BA239D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7CDFC4-97D4-4DD2-BBC0-6F030ADE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726D80-FDDF-4B8C-AE1B-F2FAE980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34BB10-F67D-40E9-AEA5-58E42497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EE9CF3-2301-45C6-9D42-DDF30179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A9916E-B6AD-4323-BBB8-7BA1FF63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5819A9-D559-4C7C-80A1-2C49A5BB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CA593F-19A6-482A-B0BD-68748A285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B32D-9892-42B9-BEE6-0A17DE1A7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F0D5B7-B0C6-428C-B4F7-A6B4BDAC1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E8994-9D2E-4519-95DB-56E4669EA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3A4D6-09EE-466F-BE65-B27A387D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B5218-3F83-4207-BF9D-297CDA8D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0E25E-39B3-4F5C-B6FC-9B421CDE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FAB87-FD83-40F8-BCD8-29D21AE4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A8DE1-FE5A-48D1-B73E-67AA596C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EB04B-540C-4F29-A2AA-87026ED4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9E86E-023E-46B5-B08B-08F85151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6DE87-4030-4587-A063-11887E71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F157-0616-4F80-9154-B345DC6C7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1C741-35E7-4BBD-97E7-905583F6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B6E93-3542-4334-89A0-E6447DB38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806C6-EF3E-46BE-A7E8-E64927191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A1143E-65A6-4112-B233-94EAC96D2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0F07EA-7474-495D-9518-BAE92170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D8EE3E-C845-4281-B0C5-5024C6A6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47D06E-5616-4204-8170-DCAABA83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5D5A2C-03F0-43AC-BC09-E0FFF9A4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D5CC74-3961-42E1-B86B-ADA2A030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94A50E-D6C8-4D81-959A-02AB467A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2F08-06CA-4CF2-9E75-465E006A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D0E2C5-8E23-48AA-B408-B452D039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AC1893-D676-469F-995A-B09A6875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17BD67-2438-4D9C-864F-0ACD5A94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590599-4BCC-45BC-9808-8091631B2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C303DA-4485-4413-92D4-A92523A0A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D145-D466-477D-9D1A-78183700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0BDD-8A7E-4904-8527-14C16202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0B57-667B-4B82-A75E-11E5B9A4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1FA6-014B-43DC-9E0B-9C01DFC0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1FBE-3BD7-4CB9-A2AA-A5F8F5A6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AD37-C2F4-4262-882E-D6B7C547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3814-10D8-4B14-822E-CACB614B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0166-566D-4CC9-86CD-D3DEDA07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6723-4E76-4EAC-ADCA-5DE712A1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DC24-DDDE-4C37-8829-F9C34B980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00EF-0CA2-4281-AA0F-9A054056B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254D6-1885-47CC-B665-7FFEA9AA7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E8420-68ED-42DF-AC3F-1CCCC28F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CFD90-1C1B-4A97-A077-CC5E6151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EB94E-00AD-4877-8C9B-50843384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AD51D-6FF7-403D-B4EB-7F23C50E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83E7-4F3E-4970-B97D-523E03C0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F887D-B17A-4C97-BA0C-4111410E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9FF27-7842-4665-8513-9795ED16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BC611-4FA6-4F8B-9831-193C4193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EAE46-B52C-4B68-AFB8-EAB39763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168E6-03FE-48E7-86B9-8B8F6F8E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CCE59-3FEB-424E-86C9-128952F7F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B29B4-54BE-475C-943E-2E12386CF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ADFBD-A5A1-472F-A715-5DEC5857E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261D2-E8F4-4721-9950-0CD58145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DBED6-2749-4E21-84B2-D8F33248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B324-5396-4BE7-A5FA-10B3E557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1D829-F6EE-492F-821C-2FD08082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A7266-6B73-4724-B53F-783D0FA8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48590-A84D-4649-966C-4508D80C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0ABDC-02D5-48E6-98F7-2D45B50B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861D5-093F-4210-BCE9-CA2B3DB0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ED5F2-1FB7-486E-B8ED-3326F1F1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15CE6-5995-4B1C-9854-81E88B7E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EE3BF-C278-4E79-8038-D40577B7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698BB-A435-4301-83F1-A5083E37D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45ED9-E47F-4636-835F-8F747ADBF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97EC-1DF4-4FE9-A303-31DF06D7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66AD7-6939-4EDD-9C02-A14FDF4B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A4664-C737-4231-9094-D89FC423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1B836-DF50-42A0-A388-D06277E6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66C2F-29F7-4A77-8545-F8BBC35F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4CE26-9B42-4F30-93E8-C3D2C18D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E74C5-BFB9-4E1C-BD5E-77CBDF98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AE1AB-6324-415E-B732-9D9D0657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3D851-460D-4F43-B1A7-58ED8D93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76A15-AFE7-48E9-908D-72197AA7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A85EB-FF1D-4105-B256-C63964AFB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82FE-8873-41D0-A8D5-C213579A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87BB5-E2EB-46FA-89C0-11A0FED6A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2FC71-9584-485C-ABEE-CE84E72FE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5DC14-E7F6-4DB1-8EC0-F92AD03D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84790-EB64-48FE-9AC4-5B3DD95A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99C3A-D549-407A-AFF9-37FCAB4E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CEEFC-1F6B-4E3D-8812-0D1A1879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D4829-C78F-4FCF-BC8F-290018CC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2EDF3-B2A8-45F8-A766-E706EA14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7B825-8FAC-4FF6-8DFB-0E1FDA9F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CCD60-89F9-4FF3-9920-40F2D345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6741-C6D4-4170-9323-3B0DE385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42DEE-E7AB-4B65-87F8-F0F19BBC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6D225-C36F-49F0-B5F0-0EC872CE9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6A58A-AD95-4D23-852D-391A84286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7618D-4D0F-4AA3-887F-8F254C50C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9EADE-D149-4520-BA5C-E04357FE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2E4BD-9313-4955-AB17-1C0852A0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55FA5-A610-457C-A1CA-6929D523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CE1D1-1D32-4405-A7AA-5B9561C2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26105-9F63-439E-B285-2214A305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3FCDD-0075-477B-ADF3-8F3A933C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6A10-64C2-4BCF-9F4B-A5B5CFC8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C2CBD-BA51-41F8-98AE-D8527398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BC66A-1C03-4391-B64D-98D942E2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5F340-42BE-484A-A40E-DB348D82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8689F-DCC2-4B64-83DF-479EE472F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91E39-007E-4BCE-B5AC-D6EAB73D6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4B144-FB42-4B51-9794-C99B43FEA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0CDAC-109B-4C87-AE00-DEAF8B29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1D525-99C0-4448-A10E-2D088C30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E4571-1A43-42B4-9C4F-9140571A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53E50-1D25-44D5-8E8B-188E1663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AC05-1991-4A7D-88C9-E2950E63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40A66-055A-4782-A115-8C7FF845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90E2B-8AE7-4A43-955C-041883CA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0D9C2-FBB8-4BFC-A527-B535ED84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BF5EF-C242-4ED2-A176-2E84C787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2C165-9460-449C-BD93-B31A6C15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224FF-C586-40BA-99B3-06FC25BDF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E5A88-CF27-40F2-8C3D-5DAC6D908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895366-9F99-41C3-AD64-B0E45B33D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52F84D-1B06-42EA-A3D4-703E8EBB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ABAE57-F6BE-4650-8A6E-5DAE0861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1417-35EA-4036-9D16-6692CD06D3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EE6D-7041-43EB-B84F-FCE9559991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5969-EF09-464A-98DF-01C8AF88B4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2BE8-D57C-48B5-9CB5-84F83E622C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AB3B-BAB2-4851-946F-47432E52A1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D3C6-5969-41FF-8277-3DEEC73650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226A-7784-404D-B4A5-C6C92F757A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EF34-376C-495F-9482-FD85FCFD76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BE3F-6034-4D27-8729-330C600FF3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2500-CFF7-42E6-91D5-FA119732CB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2AB5-12C6-4546-B566-1BE4107B108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D9F1-DC47-48F9-9F60-891A978C87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646b86"/>
                </a:solidFill>
                <a:latin typeface="Georgia"/>
              </a:rPr>
              <a:t>GRUPA IV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ALEXAN MATEI ADRIAN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HOTYA COSTEL ALEX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IAGO DENISA MARIA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MARCHIŞ ALIN MIHAI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RECĂŞAN CĂTĂLINA MARIA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ROSCA DENISA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eorgia"/>
              </a:rPr>
              <a:t>Sc</a:t>
            </a:r>
            <a:r>
              <a:rPr b="0" lang="ro-RO" sz="3800" spc="-1" strike="noStrike">
                <a:solidFill>
                  <a:srgbClr val="ffffff"/>
                </a:solidFill>
                <a:latin typeface="Georgia"/>
              </a:rPr>
              <a:t>ăderea fracţiilor</a:t>
            </a:r>
            <a:r>
              <a:rPr b="0" lang="en-US" sz="3800" spc="-1" strike="noStrike">
                <a:solidFill>
                  <a:srgbClr val="ffffff"/>
                </a:solidFill>
                <a:latin typeface="Georgia"/>
              </a:rPr>
              <a:t> care au acela</a:t>
            </a:r>
            <a:r>
              <a:rPr b="0" lang="ro-RO" sz="3800" spc="-1" strike="noStrike">
                <a:solidFill>
                  <a:srgbClr val="ffffff"/>
                </a:solidFill>
                <a:latin typeface="Georgia"/>
              </a:rPr>
              <a:t>ş</a:t>
            </a:r>
            <a:r>
              <a:rPr b="0" lang="en-US" sz="3800" spc="-1" strike="noStrike">
                <a:solidFill>
                  <a:srgbClr val="ffffff"/>
                </a:solidFill>
                <a:latin typeface="Georgia"/>
              </a:rPr>
              <a:t>i numitor</a:t>
            </a:r>
            <a:br>
              <a:rPr sz="3800"/>
            </a:br>
            <a:r>
              <a:rPr b="0" lang="ro-RO" sz="3800" spc="-1" strike="noStrike">
                <a:solidFill>
                  <a:srgbClr val="ffffff"/>
                </a:solidFill>
                <a:latin typeface="Georgia"/>
              </a:rPr>
              <a:t>Aplicaţii practice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2060"/>
                </a:solidFill>
                <a:latin typeface="Georgia"/>
              </a:rPr>
              <a:t>Mirel cumpără într – o zi 3 kg de roşii, iar în alta cu 1/2 kg mai puţin. Câte kg de roşii a cumpărat în cele două zile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oblema nr. 1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0" name="Picture 7" descr=""/>
          <p:cNvPicPr/>
          <p:nvPr/>
        </p:nvPicPr>
        <p:blipFill>
          <a:blip r:embed="rId1"/>
          <a:stretch/>
        </p:blipFill>
        <p:spPr>
          <a:xfrm>
            <a:off x="4857840" y="2214720"/>
            <a:ext cx="2381040" cy="200016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8" descr=""/>
          <p:cNvPicPr/>
          <p:nvPr/>
        </p:nvPicPr>
        <p:blipFill>
          <a:blip r:embed="rId2"/>
          <a:stretch/>
        </p:blipFill>
        <p:spPr>
          <a:xfrm>
            <a:off x="1785960" y="5072040"/>
            <a:ext cx="1428840" cy="102888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9" descr=""/>
          <p:cNvPicPr/>
          <p:nvPr/>
        </p:nvPicPr>
        <p:blipFill>
          <a:blip r:embed="rId3"/>
          <a:stretch/>
        </p:blipFill>
        <p:spPr>
          <a:xfrm>
            <a:off x="6000840" y="4286160"/>
            <a:ext cx="2786040" cy="19526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6" descr="03-apple.gif"/>
          <p:cNvPicPr/>
          <p:nvPr/>
        </p:nvPicPr>
        <p:blipFill>
          <a:blip r:embed="rId4"/>
          <a:stretch/>
        </p:blipFill>
        <p:spPr>
          <a:xfrm>
            <a:off x="7358040" y="2714760"/>
            <a:ext cx="1443240" cy="11188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7" descr="03-cherry.gif"/>
          <p:cNvPicPr/>
          <p:nvPr/>
        </p:nvPicPr>
        <p:blipFill>
          <a:blip r:embed="rId5"/>
          <a:stretch/>
        </p:blipFill>
        <p:spPr>
          <a:xfrm>
            <a:off x="4786200" y="5000760"/>
            <a:ext cx="738360" cy="92232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2060"/>
                </a:solidFill>
                <a:latin typeface="Georgia"/>
              </a:rPr>
              <a:t>Bogdan cheltuieşte 5/7 din suma pe care o are pentru a cumpăra un stilou şi un aparat de fotografiat. Preţul stiloului reprezintă 2/7 din suma totală. Ce parte din suma totală reprezintă preţul aparatului de fotografiat?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oblema nr. 2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7" name="Picture 7" descr=""/>
          <p:cNvPicPr/>
          <p:nvPr/>
        </p:nvPicPr>
        <p:blipFill>
          <a:blip r:embed="rId1"/>
          <a:stretch/>
        </p:blipFill>
        <p:spPr>
          <a:xfrm>
            <a:off x="5500800" y="2357280"/>
            <a:ext cx="1643040" cy="123840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8" descr=""/>
          <p:cNvPicPr/>
          <p:nvPr/>
        </p:nvPicPr>
        <p:blipFill>
          <a:blip r:embed="rId2"/>
          <a:stretch/>
        </p:blipFill>
        <p:spPr>
          <a:xfrm>
            <a:off x="500040" y="285840"/>
            <a:ext cx="1320840" cy="90972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8" descr="Appareil photo (80x65px)"/>
          <p:cNvPicPr/>
          <p:nvPr/>
        </p:nvPicPr>
        <p:blipFill>
          <a:blip r:embed="rId3"/>
          <a:stretch/>
        </p:blipFill>
        <p:spPr>
          <a:xfrm>
            <a:off x="5786280" y="4357800"/>
            <a:ext cx="1643400" cy="133488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6" descr="untitled.bmp"/>
          <p:cNvPicPr/>
          <p:nvPr/>
        </p:nvPicPr>
        <p:blipFill>
          <a:blip r:embed="rId4"/>
          <a:stretch/>
        </p:blipFill>
        <p:spPr>
          <a:xfrm>
            <a:off x="7643880" y="428760"/>
            <a:ext cx="585720" cy="585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2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1 -0.09782 C -0.05902 -0.08973 -0.05416 -0.08325 -0.05017 -0.07516 C -0.04513 -0.08325 -0.04114 -0.08973 -0.03506 -0.09782 C -0.000169999999999997 -0.14454 0.04184 -0.16443 0.05886 -0.14315 C 0.07483 -0.12049 0.0599 -0.06452 0.02483 -0.01781 C 0.01893 -0.01133 0.01389 -0.00462 0.00782 0.00208 C 0.01389 0.0074 0.01893 0.01411 0.02483 0.02197 C 0.0599 0.06869 0.07483 0.12465 0.05886 0.14593 C 0.04184 0.1686 -0.000169999999999997 0.14871 -0.03506 0.10199 C -0.04114 0.0939 -0.04513 0.08742 -0.05017 0.07933 C -0.05416 0.08742 -0.05902 0.0939 -0.0651 0.10199 C -0.10017 0.14871 -0.14218 0.1686 -0.15902 0.14593 C -0.17517 0.12465 -0.16006 0.06869 -0.12517 0.02197 C -0.11909 0.01411 -0.11406 0.0074 -0.10816 0.00208 C -0.11406 -0.00462 -0.11909 -0.01133 -0.12517 -0.01781 C -0.16006 -0.06452 -0.17517 -0.12049 -0.15902 -0.14315 C -0.14218 -0.16443 -0.10017 -0.14454 -0.0651 -0.09782 Z">
                                      <p:cBhvr>
                                        <p:cTn id="41" dur="2000" fill="hold"/>
                                        <p:tgtEl>
                                          <p:spTgt spid="6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36 -0.07007 C 0.01962 -0.0666 0.01667 -0.06336 0.01667 -0.05943 C 0.01667 -0.05781 0.01788 -0.05619 0.0184 -0.05458 C 0.01893 -0.05296 0.01962 -0.05111 0.02014 -0.04972 C 0.02136 -0.04648 0.02257 -0.04347 0.02379 -0.04024 C 0.02483 -0.037 0.02709 -0.03052 0.02691 -0.03052 C 0.0283 -0.02104 0.02726 -0.02636 0.03143 -0.01503 C 0.03212 -0.01364 0.03334 -0.01017 0.03316 -0.01017 C 0.03959 -0.00578 0.04566 -0.00115 0.05191 0.00324 C 0.0625 0.0007 0.05799 0.00185 0.06545 -0.00023 C 0.07136 -0.00185 0.07778 -0.00832 0.08334 -0.01179 C 0.08715 -0.01942 0.08837 -0.0222 0.08542 -0.03075 C 0.08715 -0.04209 0.08646 -0.03191 0.08455 -0.04162 C 0.08368 -0.04532 0.08281 -0.05365 0.08264 -0.05342 C 0.08455 -0.06475 0.08542 -0.06637 0.08229 -0.07608 C 0.08403 -0.0895 0.09323 -0.10245 0.10382 -0.09967 C 0.1099 -0.10106 0.11545 -0.09944 0.12066 -0.09597 C 0.12518 -0.08903 0.13108 -0.08279 0.13316 -0.07423 C 0.14011 -0.04602 0.13143 -0.07238 0.13663 -0.05735 C 0.14236 -0.05157 0.14479 -0.04833 0.15156 -0.04648 C 0.15573 -0.04879 0.15938 -0.05203 0.16337 -0.05458 C 0.16563 -0.05828 0.17448 -0.06984 0.17518 -0.07724 C 0.17622 -0.08857 0.16858 -0.10152 0.16389 -0.10939 C 0.15729 -0.12719 0.14757 -0.1265 0.15087 -0.14662 C 0.15538 -0.14523 0.15834 -0.14315 0.1625 -0.14038 C 0.1632 -0.13922 0.16945 -0.12951 0.17031 -0.12488 C 0.17118 -0.12095 0.17205 -0.11309 0.17188 -0.11285 C 0.17031 -0.10152 0.17084 -0.11216 0.17292 -0.10222 C 0.17552 -0.08973 0.175 -0.08001 0.17969 -0.06868 C 0.18056 -0.0666 0.18143 -0.06475 0.18212 -0.06267 C 0.18351 -0.05943 0.18577 -0.05319 0.18559 -0.05296 C 0.18559 -0.03584 0.17882 -0.02058 0.17292 -0.00555 C 0.16528 0.00324 0.15573 0.02105 0.14393 0.01781 C 0.13646 0.02267 0.1283 0.03909 0.11979 0.03284 C 0.11754 0.03354 0.1092 0.03863 0.10799 0.03863 C 0.10504 0.03863 0.09913 0.03608 0.09896 0.03631 C 0.09479 0.03724 0.09097 0.04024 0.08646 0.04071 C 0.08125 0.0414 0.07622 0.04117 0.07118 0.04163 C 0.06962 0.04163 0.0684 0.04302 0.06684 0.04279 C 0.06059 0.04186 0.05018 0.03307 0.04462 0.02937 C 0.02969 0.0192 0.0309 0.0643 -1.94444E-006 -3.62627E-006 E">
                                      <p:cBhvr>
                                        <p:cTn id="45" dur="2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055 0.0821 C -0.11597 0.09159 -0.15139 0.1013 -0.17031 0.12581 C -0.18923 0.15033 -0.17656 0.21416 -0.19444 0.22873 C -0.21232 0.2433 -0.26545 0.20213 -0.27795 0.21369 C -0.29045 0.22526 -0.26614 0.26943 -0.26909 0.29788 C -0.27205 0.32632 -0.31614 0.36541 -0.29566 0.38391 C -0.27517 0.40241 -0.17448 0.41605 -0.14635 0.40912 C -0.11823 0.40218 -0.13628 0.34829 -0.12725 0.34182 C -0.11823 0.33534 -0.10173 0.37096 -0.09184 0.37049 C -0.08194 0.37003 -0.075 0.35407 -0.06788 0.33835 E">
                                      <p:cBhvr>
                                        <p:cTn id="49" dur="2000" fill="hold"/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2060"/>
                </a:solidFill>
                <a:latin typeface="Georgia"/>
              </a:rPr>
              <a:t>Pentru confecţionarea unei rochii se folosesc 13/5 m de material, iar pentru o bluză cu 6/5m mai puţin. Câţi m de material sunt necesari pentru  confecţionarea bluzei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oblema nr. 3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3" name="Picture 7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2027160" cy="235728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4" descr="alexandra_doll89.gif"/>
          <p:cNvPicPr/>
          <p:nvPr/>
        </p:nvPicPr>
        <p:blipFill>
          <a:blip r:embed="rId2"/>
          <a:stretch/>
        </p:blipFill>
        <p:spPr>
          <a:xfrm>
            <a:off x="7072200" y="3857760"/>
            <a:ext cx="1508400" cy="21430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5" dur="2000" fill="hold"/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2060"/>
                </a:solidFill>
                <a:latin typeface="Georgia"/>
              </a:rPr>
              <a:t>O ladă încărcată cu marfă cântăreşte 30 ½ kg. Cât cântăreşte marfa ştiind că lada goală cântăreşte 5 ½ kg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oblema nr. 4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7" name="Picture 7" descr=""/>
          <p:cNvPicPr/>
          <p:nvPr/>
        </p:nvPicPr>
        <p:blipFill>
          <a:blip r:embed="rId1"/>
          <a:stretch/>
        </p:blipFill>
        <p:spPr>
          <a:xfrm>
            <a:off x="500040" y="214200"/>
            <a:ext cx="928800" cy="1143000"/>
          </a:xfrm>
          <a:prstGeom prst="rect">
            <a:avLst/>
          </a:prstGeom>
          <a:ln w="0">
            <a:noFill/>
          </a:ln>
        </p:spPr>
      </p:pic>
      <p:pic>
        <p:nvPicPr>
          <p:cNvPr id="628" name="Content Placeholder 6" descr="seller3.gif"/>
          <p:cNvPicPr/>
          <p:nvPr/>
        </p:nvPicPr>
        <p:blipFill>
          <a:blip r:embed="rId2"/>
          <a:stretch/>
        </p:blipFill>
        <p:spPr>
          <a:xfrm>
            <a:off x="7000920" y="2786040"/>
            <a:ext cx="1733400" cy="16765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1" dur="2000" fill="hold"/>
                                        <p:tgtEl>
                                          <p:spTgt spid="6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2060"/>
                </a:solidFill>
                <a:latin typeface="Georgia"/>
              </a:rPr>
              <a:t>Doi muncitori au săpat împreună un şanţ. Primul a săpat 3/8 din lungimea şanţului. Ce parte din lungimea şanţului a săpat al doilea muncitor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oblema nr. 5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1" name="Picture 7" descr=""/>
          <p:cNvPicPr/>
          <p:nvPr/>
        </p:nvPicPr>
        <p:blipFill>
          <a:blip r:embed="rId1"/>
          <a:stretch/>
        </p:blipFill>
        <p:spPr>
          <a:xfrm>
            <a:off x="642960" y="214200"/>
            <a:ext cx="857160" cy="100008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8" descr=""/>
          <p:cNvPicPr/>
          <p:nvPr/>
        </p:nvPicPr>
        <p:blipFill>
          <a:blip r:embed="rId2"/>
          <a:stretch/>
        </p:blipFill>
        <p:spPr>
          <a:xfrm>
            <a:off x="7500960" y="214200"/>
            <a:ext cx="928800" cy="10000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" descr="constdig.gif"/>
          <p:cNvPicPr/>
          <p:nvPr/>
        </p:nvPicPr>
        <p:blipFill>
          <a:blip r:embed="rId3"/>
          <a:stretch/>
        </p:blipFill>
        <p:spPr>
          <a:xfrm>
            <a:off x="5000760" y="3929040"/>
            <a:ext cx="2809800" cy="2173320"/>
          </a:xfrm>
          <a:prstGeom prst="rect">
            <a:avLst/>
          </a:prstGeom>
          <a:ln w="0">
            <a:noFill/>
          </a:ln>
        </p:spPr>
      </p:pic>
      <p:pic>
        <p:nvPicPr>
          <p:cNvPr id="634" name="Content Placeholder 8" descr="cement.gif"/>
          <p:cNvPicPr/>
          <p:nvPr/>
        </p:nvPicPr>
        <p:blipFill>
          <a:blip r:embed="rId4"/>
          <a:stretch/>
        </p:blipFill>
        <p:spPr>
          <a:xfrm>
            <a:off x="4643280" y="2643120"/>
            <a:ext cx="3533760" cy="1643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7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1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2060"/>
                </a:solidFill>
                <a:latin typeface="Georgia"/>
              </a:rPr>
              <a:t>Într – un magazin, la deschidere, sunt 1600 kg zahăr. Seara la închiderea magazinului se constată că s – au vândut 805 ¾ kg. Ce cantitate de zahăr a răma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oblema nr. 6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7" name="Picture 7" descr=""/>
          <p:cNvPicPr/>
          <p:nvPr/>
        </p:nvPicPr>
        <p:blipFill>
          <a:blip r:embed="rId1"/>
          <a:stretch/>
        </p:blipFill>
        <p:spPr>
          <a:xfrm>
            <a:off x="6286680" y="4929120"/>
            <a:ext cx="1209600" cy="100980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8" descr=""/>
          <p:cNvPicPr/>
          <p:nvPr/>
        </p:nvPicPr>
        <p:blipFill>
          <a:blip r:embed="rId2"/>
          <a:stretch/>
        </p:blipFill>
        <p:spPr>
          <a:xfrm>
            <a:off x="5715000" y="2857680"/>
            <a:ext cx="2286000" cy="15001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2060"/>
                </a:solidFill>
                <a:latin typeface="Georgia"/>
              </a:rPr>
              <a:t>Un călător a parcurs în două zile 9/13 din totalul drumului pe care îl are de parcurs. Dacă in prima zi a parcurs 6/13 din tot drumul, ce fracţie (din tot drumul) a parcurs în a doua zi?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2060"/>
                </a:solidFill>
                <a:latin typeface="Georgia"/>
              </a:rPr>
              <a:t>    </a:t>
            </a:r>
            <a:r>
              <a:rPr b="0" lang="ro-RO" sz="2300" spc="-1" strike="noStrike">
                <a:solidFill>
                  <a:srgbClr val="002060"/>
                </a:solidFill>
                <a:latin typeface="Georgia"/>
              </a:rPr>
              <a:t>Ce fracţie din tot drumul mai are de parcurs după primele două zile?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oblema nr. 7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1" name="Picture 2" descr=""/>
          <p:cNvPicPr/>
          <p:nvPr/>
        </p:nvPicPr>
        <p:blipFill>
          <a:blip r:embed="rId1"/>
          <a:stretch/>
        </p:blipFill>
        <p:spPr>
          <a:xfrm>
            <a:off x="642960" y="285840"/>
            <a:ext cx="914400" cy="85716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6" descr="Boule et bill (143x144px)"/>
          <p:cNvPicPr/>
          <p:nvPr/>
        </p:nvPicPr>
        <p:blipFill>
          <a:blip r:embed="rId2"/>
          <a:stretch/>
        </p:blipFill>
        <p:spPr>
          <a:xfrm>
            <a:off x="5214960" y="2786040"/>
            <a:ext cx="2978280" cy="30002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8" descr="Spiderman (176x208px)"/>
          <p:cNvPicPr/>
          <p:nvPr/>
        </p:nvPicPr>
        <p:blipFill>
          <a:blip r:embed="rId3"/>
          <a:stretch/>
        </p:blipFill>
        <p:spPr>
          <a:xfrm>
            <a:off x="7215120" y="142920"/>
            <a:ext cx="928800" cy="1100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1"/>
          <p:cNvSpPr/>
          <p:nvPr/>
        </p:nvSpPr>
        <p:spPr>
          <a:xfrm>
            <a:off x="1571760" y="2214720"/>
            <a:ext cx="5715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Manuale şi auxiliare didactice, culegeri de probl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D. Branzei, D. Zaharia, M. Zahari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方正舒体"/>
              </a:rPr>
              <a:t>–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Mate 2000 + 10/11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, Editura Paralela 45, cls. a V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G. Turcitu, I. Rizea, C. Basarab, M. Duncea, P. Ciungu, I. Chiriac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方正舒体"/>
              </a:rPr>
              <a:t>–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Manual  pentru clasa a V-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, Ed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itur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Radical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Documentaţie diversă in format electronic, site-uri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http://images.google.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"/>
          <p:cNvSpPr/>
          <p:nvPr/>
        </p:nvSpPr>
        <p:spPr>
          <a:xfrm>
            <a:off x="2643120" y="85716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9999"/>
                </a:solidFill>
                <a:latin typeface="Arial"/>
              </a:rPr>
              <a:t>Bibliograf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2T17:19:58Z</dcterms:created>
  <dc:creator>Ionica</dc:creator>
  <dc:description/>
  <dc:language>en-US</dc:language>
  <cp:lastModifiedBy>user</cp:lastModifiedBy>
  <dcterms:modified xsi:type="dcterms:W3CDTF">2011-01-26T09:29:13Z</dcterms:modified>
  <cp:revision>13</cp:revision>
  <dc:subject/>
  <dc:title>Slide 1</dc:title>
</cp:coreProperties>
</file>